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04C-540A-4625-AEAC-94036FAF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42C-B7A5-4779-9B31-05ACB483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BDB-9661-4423-92C3-FF49B316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290-937E-4BBC-94D2-5E781D25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42EE-2828-4504-89BB-4E67F52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7E13-EB7F-4494-B641-E271E32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5FF-7190-4219-8308-0392EB4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3C63-AB0F-4EAC-AA2B-A4814FBF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DE9-CB2B-41C7-A50B-BF6E1F28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95C7-3777-4BA5-B861-EEED7CA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8018-A77B-4844-89C2-63D4963E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73E-6D16-4AD3-8996-4D696AB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84A-90BD-463B-B39E-3DCBA9A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097-939B-4C97-AF4E-BEB363D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CA2A-0A30-48CD-88D7-5C79A89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73A-5F75-40B1-BBAC-63758F02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703-31C5-412B-B312-C1A11D63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142-35FB-42BC-AA55-C044BAC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444-3988-4934-BD70-988A1CCF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555-729A-4B2A-8E5F-1BD622C3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357-A837-44A0-8B5E-17F4155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325-2E0C-49E8-A98E-C4ADCFD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BB-7A45-4EC7-ADD9-E2A2356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C36-D6FF-4D78-95C8-56650888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444-7257-401B-8E94-B51C4733DB0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B2A-A191-45B2-86C7-F4A48AD46AD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dff"/>
                </a:solidFill>
                <a:latin typeface="Comic Sans MS"/>
              </a:rPr>
              <a:t>The perfect tense</a:t>
            </a:r>
            <a:br>
              <a:rPr sz="4400"/>
            </a:br>
            <a:r>
              <a:rPr b="0" lang="en-GB" sz="4400" spc="-1" strike="noStrike">
                <a:solidFill>
                  <a:srgbClr val="703dff"/>
                </a:solidFill>
                <a:latin typeface="Comic Sans MS"/>
              </a:rPr>
              <a:t>(Le Pass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é Composé)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- Use and 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- Perfect with Avoi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- Perfect with E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-Time expres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Passerat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xiv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 reflexive verbs use the auxiliar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perfect ten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 lever (to get u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 me suis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t’es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,Elle,On s’est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nous sommes levé(e)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vous êtes levé(e)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,Elles se sont levé(e)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- Time expres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’an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e dernière (last ye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t-hier (the day before yesterda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 (yesterda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 matin/soir (yesterday morning/eve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dant les dernières vacances (during the last holiday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emaine dernière (last wee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week-end dernier (last week-e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-Use and form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ense is used to describe a single completed action in the p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needs 2 parts: the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uxiliary ver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avoir 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être in the present)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gular past parti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ast participle of a verb is the form that generally corresponds to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–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nding in English (play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chang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finish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R verbs end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ang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 verbs end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vend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e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R verbs end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fi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759280" y="400536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59280" y="5049720"/>
            <a:ext cx="46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-Avoir verb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st verbs use the auxiliary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avo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ndings always stay the s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ARD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ND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, Elle, O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o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s, Ell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n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" y="3284640"/>
            <a:ext cx="756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260028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63700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2673360"/>
            <a:ext cx="0" cy="27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rregular past parti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voir (j’ai eu/I had)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être (j’ai été/I was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re (j’ai fait/I did), peindre (j’ai peint/I painted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it”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ert”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 (j’ai dit/I said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rir (j’ai offert/I offer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crire (j’ai écrit/I wrot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vrir (j’ai ouvert/I open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is”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tre (j’ai mis/I pu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ndre (j’ai pris/I too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ettre (j’ai promis/I promis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ttre (j’ai remis/I put back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u”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ire (j’ai bu/I drank), con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ître (j’ai connu/Iknew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rir (j’ai couru/I ran), devoir (j’ai dû/I had to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raître (j’ai disparu/I disappeared), lire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/read), pleuvoir (il a plu/It rained), pouvoir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/I could), recevoir (j’ai reçu/I received), savoi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’ai su/I knew), tenir (j’ai tenu/I held), vivre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écu/I lived), voir (j’ai vu/I saw), vouloir (j’ai voulu/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ed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- Etr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are some verbs that use the auxiliary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at case, the past participle agrees with the subject (masculine, feminine, singular or plural endings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7280" y="1844640"/>
            <a:ext cx="84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-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DESCEND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u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,Elle, O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omm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êt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(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s, Elle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708280"/>
            <a:ext cx="799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1989000"/>
            <a:ext cx="0" cy="31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1952640"/>
            <a:ext cx="0" cy="31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1640" y="195264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st of Etr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 up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stay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com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nu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riv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arriv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ri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ît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 be bor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t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 out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mb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fall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m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stay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l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ur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di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rt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t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leav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rti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tr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enter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cendr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et off/go down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scendu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9-10-21T23:18:0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